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653-CB01-4209-8F41-2DD7D18B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297-A4DF-4EA1-9D17-57B80C19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B34-779E-4EB6-9777-15DCA596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C4A-BE3C-4834-8413-4A643B40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38B-E93C-4A88-8B37-A695FA46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B3F-29B9-4DB4-9E68-8153D2A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23D-4773-47C6-BD4A-1DA9189E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586-AD72-4A77-9864-240309C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E56-2B26-4EA1-9207-63BE363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96E-3963-46DA-A73F-29AF415D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9C7-EE2C-4B42-9A44-EE6DCCA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B25-8D55-4E87-AF95-ABCE830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91B-9C85-47E9-A376-ACDE281DA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IZA ECHILIBRULUI FINANCIAR 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 X S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iect realizat de elev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zii fi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informative despre socie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ta de verificare la data de 31.12.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anta de verificare la data de 31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ii economico-financiari calculati pentru anul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ii economico-financiari calculati pentru anul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fice cu evolutia indicatorilor economico-finaciari in perioada 2007-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profesor</cp:lastModifiedBy>
  <dcterms:modified xsi:type="dcterms:W3CDTF">2010-02-26T09:28:01Z</dcterms:modified>
  <cp:revision>1</cp:revision>
  <dc:subject/>
  <dc:title>ANALIZA ECHILIBRULUI FINANCIAR LA  SC X SRL</dc:title>
</cp:coreProperties>
</file>